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9BF9-C8F2-46D6-8148-A5E2F9C1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7BF4-1ACE-4BE3-994F-00FC0336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5EF6-D6DF-4057-9106-6DAF9F9B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1DD0-F466-41B4-BC6A-F4954648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26B1-8F6D-4E20-A712-DB156960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DF4B-1897-4029-BD5D-2C856076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BAEC-0F78-4E9C-959D-119D290A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038C-A7C8-4C93-9973-6AA2BF2C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2DFC-46D4-42C2-8ABA-DF151674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2F3D-2DDC-43A8-B899-BB588A52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A757-9AEF-479B-897D-9BA8AF5F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A432-F76D-46C2-B0E4-5FF83CE6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F756-83D7-4EBD-9770-29532F06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3C29-EDCF-4FB3-8BD2-15F2ABCD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ED65-1C93-4CAA-878B-8F1B6975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BB21-57E8-4F47-BEF4-ED99C1EE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B25A-C1D6-4B10-AA9A-ED1996E1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F442-1256-4E95-A9DD-5F22CEE7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A58F-8180-4E09-8777-C5CD9E7F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485F-8A1E-4481-A07C-464CB02B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9859-FAE3-4ADF-ADFB-33B1297B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5317-A469-4FCB-85C3-ACD3AC4C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41B8-C903-481A-BBD2-2182B6CC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53D4-249B-4D47-92F6-D2561513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5E20-6135-483D-BC24-8DE59FF9DE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7CE9-9133-4DAC-80AC-9199EC8C98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kubbu.com/" TargetMode="External"/><Relationship Id="rId3" Type="http://schemas.openxmlformats.org/officeDocument/2006/relationships/hyperlink" Target="http://www.kubbu.com/" TargetMode="External"/><Relationship Id="rId4" Type="http://schemas.openxmlformats.org/officeDocument/2006/relationships/hyperlink" Target="http://www.kubbu.com/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7564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736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Η εφαρμογή που χρησιμοποιήσαμε είναι το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BBU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. Είναι  μια εφαρμογή που χρησιμεύει στην δημιουργία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σταυρολέξων κ.τ.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102614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ρχικά, πρέπει να δημιουργήσετε  έναν λογαριασμό στο </a:t>
            </a:r>
            <a:r>
              <a:rPr b="0" lang="el-GR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</a:t>
            </a:r>
            <a:r>
              <a:rPr b="0" lang="el-GR" sz="32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//</a:t>
            </a:r>
            <a:r>
              <a:rPr b="0" lang="el-GR" sz="32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www.kubbu.com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Μετά, πατήστε  στο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και μετά διαλέξτε τον τύπο εργασίας που θέλετε  να φτιάξετ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Στην συνέχεια ορίστε κάποιους συντελεστέ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Τέλος,  μπορείτε να το εκτυπώσετε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childTnLst>
                                    <p:set>
                                      <p:cBhvr>
                                        <p:cTn id="6" dur="1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42960" y="-51440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Το πρόγραμμα αυτό μπορεί  να χρησιμοποιηθεί κυρίως από τους καθηγητές στην εκπαιδευτική διαδικασία ως βοήθημα στο εκπαιδευτικό έργο τους ( διαγωνίσματα 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0:44:00Z</dcterms:created>
  <dc:creator>Μαθητής Β' Λυκείου</dc:creator>
  <dc:description/>
  <dc:language>en-US</dc:language>
  <cp:lastModifiedBy>Μαθητής Β' Λυκείου</cp:lastModifiedBy>
  <dcterms:modified xsi:type="dcterms:W3CDTF">2014-01-22T10:12:23Z</dcterms:modified>
  <cp:revision>3</cp:revision>
  <dc:subject/>
  <dc:title>Διαφάνεια 1</dc:title>
</cp:coreProperties>
</file>